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C4AB-8F9E-4E3D-8B92-2B5583A9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627-7C60-4809-B733-06836AB8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9ABF-9F60-4669-8B51-C50E6CD7C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9F0-0FF1-40A1-B2AC-988AC815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CA42-8C0A-4764-A4A9-C931E59B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3F2C-4CDA-4C08-AB0A-31265BEF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3547-A61B-4B28-BE93-6999207F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0B2A-84CA-41AB-A1BF-9E618CAB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311-BD05-4729-9DF2-E90BE369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B8A-165C-4AF9-96B4-C4A202F3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060-65D8-40D5-80CF-5DC5737F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95B8-9200-4E5E-994C-546E1BB1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819A-0D27-4BC9-BB3B-3879C3C7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ole of the Citizen Cornell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 What does “role of the citizen”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uch influence does a citizen have in how their country is ru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some countries, people have no say; others have lots of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 What are the 3 government types that describe role of the citiz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cr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igarc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What is the role of the citizen in an autocracy? Examp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ttle or no role/infl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utocracies the leader has unlimited pow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is usually restrictive—fear and military involved of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fe example: Saddam Hus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example: Kietzman in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6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7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 What is the role of the citizen in an oligarchy?  Exampl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495320" y="0"/>
            <a:ext cx="44197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ttle or no role/influ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 oligarchies, a few people rule (usually rich/powerful) and share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fe is usually restri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ghting in govt over pow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hange leadership often because of power strug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fe example: NONE! No one likes to sh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chool example:  Kietzman &amp; Nolasco in 1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&amp; 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403848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 What is the role of the citizen in a democracy?  Exampl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304560"/>
            <a:ext cx="4038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e role in influencing the government including, lobbying, voting, writing 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cratic governments get their power from the peo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is usually better than in the others but not perf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example: US, Canada, Ind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 example:  Student Forum members vote and influence school ev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2:39:30Z</dcterms:created>
  <dc:creator>Cobb County School District</dc:creator>
  <dc:description/>
  <dc:language>en-US</dc:language>
  <cp:lastModifiedBy>Cobb County School District</cp:lastModifiedBy>
  <dcterms:modified xsi:type="dcterms:W3CDTF">2009-10-06T14:16:22Z</dcterms:modified>
  <cp:revision>10</cp:revision>
  <dc:subject/>
  <dc:title>Role of the Citizen Cornell Notes</dc:title>
</cp:coreProperties>
</file>